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FA5-4FDC-47A5-851F-87FD2BDE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130-5425-4D1A-B1F8-597F8A74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C0C-901D-4264-BE6D-93369534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F35-31CF-4C88-B5B5-5C8E3AF8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55B-4A4A-4DEC-9F8D-DF1C3688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C4B-2EF8-4ED1-B5CF-A603E0AC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5181-53F0-4B9C-88E5-683890C7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200-875E-42C7-A490-E0788001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F70-086A-4F96-8DA2-78534BBC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699-F158-4955-AB09-38793D8E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63F-9BAB-48A7-AF82-9BB7F6CC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C441-AE53-4280-8E0E-FE0C946D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7281-146A-46EA-9F3F-2AA5690E6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 to 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imals are diverse, but they have basic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characteristic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in comm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are made of many ce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imal cells have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nucleu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nd organel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depend on other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livin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hings in the environment for f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ige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heir f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st animals can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mo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reproduc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exually; some can also reproduce asexu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Adaptation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from previous generations help individuals survive and reprodu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sic adaptation is obtainin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erg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f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rbivo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at pl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nivo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at only other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s that eat both plants and animals ar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mniv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ritivores such as beetles and millipedes ea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ay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tter called detrit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daptations help animals surviv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ectiv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vering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uch as shells or quills help protect animals from predato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rg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protects some anim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micr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r camoflage helps other animals blend into the environment or confuse predato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mouflag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is an adaptation for predators so they can sneak up on their pre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haviora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daptations can help animals surviv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animals u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emic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discourage pred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lows some animals to outrun pred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velling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oup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assist both predators and pr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imals are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assifie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based on similar characteris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ertebrat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have a backbone;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vertebrat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o not have a backb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ymmetr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is how an animal’s body parts are arrang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ymmetric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imals do not have a definite sha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adi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ymmetry have parts arranged in a circle around a center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later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metry have halves that are nearly mirror imag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Sym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biologycorner.com/resources/symmetry_comparison.gif"/>
          <p:cNvPicPr/>
          <p:nvPr/>
        </p:nvPicPr>
        <p:blipFill>
          <a:blip r:embed="rId1"/>
          <a:stretch/>
        </p:blipFill>
        <p:spPr>
          <a:xfrm>
            <a:off x="2209680" y="1714680"/>
            <a:ext cx="4572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cpborja.educa.aragon.es/pdigital/kidspiration/kidspics/Vertebrates%20and%20Invertebrates.jpg"/>
          <p:cNvPicPr/>
          <p:nvPr/>
        </p:nvPicPr>
        <p:blipFill>
          <a:blip r:embed="rId1"/>
          <a:stretch/>
        </p:blipFill>
        <p:spPr>
          <a:xfrm>
            <a:off x="914400" y="0"/>
            <a:ext cx="779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7:23:21Z</dcterms:created>
  <dc:creator>student</dc:creator>
  <dc:description/>
  <dc:language>en-US</dc:language>
  <cp:lastModifiedBy>student</cp:lastModifiedBy>
  <dcterms:modified xsi:type="dcterms:W3CDTF">2008-09-19T17:54:52Z</dcterms:modified>
  <cp:revision>5</cp:revision>
  <dc:subject/>
  <dc:title>Slide 1</dc:title>
</cp:coreProperties>
</file>